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FF6-A140-4677-8CBB-EAA61C9A7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E159-F21C-490D-AD94-3335782B6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828-7EB6-493D-8007-DA2531B8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6BE-61ED-4FF6-9165-3518B80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744-97B0-4B52-A6FD-2C7E79F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E45-1951-46D8-B3C4-EC8DA003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4F8-77FF-43B6-A27F-9007001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02F-28A0-4534-B2FF-8E0B81C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343-115C-4762-997E-3D99A76C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E66-963E-49E0-B308-7E761F99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AA2-0478-4FEC-8AC0-A6EFF8E3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5D0-9D4E-4001-B4A1-FF37436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0D3-82F2-41D5-8204-C69AC24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06E-3E80-4BF2-A762-767C9AF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5C3E-BEC8-493C-A483-1DE028C2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21Z</dcterms:modified>
  <cp:revision>118</cp:revision>
  <dc:subject/>
  <dc:title>Museum of World Stuff</dc:title>
</cp:coreProperties>
</file>